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F4D1-8733-46BA-AB3A-32A3C3F7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5F53-EF1C-447D-A008-19E95638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2BAF-0748-4586-9900-F2C677C3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C300-8759-4ADD-8A37-EF5926B6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DDA69-20E5-43BD-B777-3738308A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7EC71-74EC-41A5-B68A-526D0885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49F9D-6A39-433F-9B41-4609ACE9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34188-ED18-438D-9C3D-5D27E377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FF058-0B62-4211-A2F7-FE2E03D6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26F6A-2C0C-4376-A209-E93CE771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4D554-7754-4578-91FC-0A37CA67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BE03-69F1-43F2-9AAE-981D64E1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3FFE6-FBF5-48FF-A2AD-20718CC6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32CC5-4E88-43CC-867F-1A75317F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F3145-0939-40EE-B161-52BBD8B2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E5BC5-F43B-4FA1-A57D-660C9124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4064E-78FB-407A-AC16-55091A1C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138B-E0E0-4E08-9DB8-7AE6639C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A36F-090D-4B28-9373-587D2D06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AF5A-AA48-406C-8541-DDF488F0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BE91-C2C3-4C29-8A48-A10A93D8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7B46-5D35-43BB-ADDA-0BE0925F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D219-971A-41F0-A678-2F40C4F2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FBB6-3A5F-4D54-8515-8C5EC880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B087-5DB0-43F8-B731-C1A1F4DE73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3DC0-4399-42F3-B5D2-3583929C39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mework-choose one of the following to write about in your notebook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Imagine you are new in Maycomb and had recently met Scout, Jem and Dill. In a letter to a friend in your old hometown, describe the three of th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Jem has to go back for his pants. Respond in the dialogue below, and defend his actions to a friend who say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iend: It was stupid of Jem to go back for his pants; he could have been kill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mophone pract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c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us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cused Free wri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uld you rather: 5 minu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banned from the internet for a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watch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v for a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ocabulary Practice-choose the word that best fits in the blank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tudents were ______ sharing their 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eacher wanted to create a ______ classroom environ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tudent was kicked out of school for _______ behavi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r mom had a look of ________ when I told her about my 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uidance counselor offered ________ for the students behavi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KAM-Chapter 6 answer the following questions in your notebook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what the children were doing in the Radley yard and what they saw that made them run aw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out didn’t want to join Jem and Dill, what did Dill say to her to convince h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is it important to Jem that he go back and get his pants before morn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es Jem say to Scout that shows he feels what they did was wro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might account for Jem’s change of hear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Questions Continued-think about handout before doing the following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do the following characters change during the course of this chapter, or do they change at al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ch of the three children would you say is the major character in this chapter? Cite incidents from the chapter to support your answ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n’t Forget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 due tomorr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quiz tomorr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01:22:01Z</dcterms:created>
  <dc:creator>Angie</dc:creator>
  <dc:description/>
  <dc:language>en-US</dc:language>
  <cp:lastModifiedBy>Angie</cp:lastModifiedBy>
  <dcterms:modified xsi:type="dcterms:W3CDTF">2009-01-29T04:20:53Z</dcterms:modified>
  <cp:revision>3</cp:revision>
  <dc:subject/>
  <dc:title>DOL</dc:title>
</cp:coreProperties>
</file>